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FAC-84B2-4772-B449-15919CE7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FA0-3A55-49BD-8755-46C436FC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F10-998E-42BA-B866-C0A81EF0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55C-F24C-4236-9E2F-B6B7CCD6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9D7-0603-402B-A17E-19DECFDA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F23-D45B-49AF-8A69-F7E964F9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27E-17C3-447D-94ED-0C7470B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1F1-1F8E-4D22-BFA6-DA8B072C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615-4EC5-4B98-A152-499DFB1C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C5F-71CF-44F4-A580-38F15AC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DE4-8B22-46AC-86A7-DDC5F7F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B60-49ED-4A36-B559-C1740D3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9D49-5E75-42D7-B5C5-C0B84EC4F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cache.eb.com/eb/image%3Fid%3D1254%26rendTypeId%3D4&amp;imgrefurl=http://www.britannica.com/eb/art-11667/Harold-Holt-1966&amp;h=450&amp;w=329&amp;sz=23&amp;hl=en&amp;start=10&amp;um=1&amp;tbnid=Fg7EXf699_faGM:&amp;tbnh=127&amp;tbnw=93&amp;prev=/images%3Fq%3DHarold%2BHolt%2Bpics%26um%3D1%26hl%3Den%26safe%3Dstrict%26sa%3DN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620640"/>
            <a:ext cx="73454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tizenship Referendum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5229360"/>
            <a:ext cx="6408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y Mark C and Annett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84360" y="1628640"/>
            <a:ext cx="2951280" cy="3529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referendum states to remove the term aboriginal race because it was considered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discriminatory.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t also denied the Commonwealth Parliament to make special laws for the aborigin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60280"/>
            <a:ext cx="792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99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y was it created?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solidFill>
                <a:srgbClr val="99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referedum" descr="1967 Referedum"/>
          <p:cNvPicPr/>
          <p:nvPr/>
        </p:nvPicPr>
        <p:blipFill>
          <a:blip r:embed="rId1"/>
          <a:stretch/>
        </p:blipFill>
        <p:spPr>
          <a:xfrm>
            <a:off x="2484360" y="3298680"/>
            <a:ext cx="2932200" cy="3559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ay 1967 the referendum on Aboriginal citizenship was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in Commonwealth Parli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333360"/>
            <a:ext cx="813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When was it creat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20032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jority of people with one answer wins th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lso a specific question asked about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333360"/>
            <a:ext cx="7777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is a referendum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2345040" cy="32846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e minister Harold Holt after a lot of pressure gave in and allowed Australians to vote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happened in 19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11280" y="404640"/>
            <a:ext cx="7777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o created this referendum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924280"/>
            <a:ext cx="274140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245448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in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amount of attention was drawn to them while pro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 Ride most success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404640"/>
            <a:ext cx="7848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bb3e8"/>
                    </a:gs>
                    <a:gs pos="100000">
                      <a:srgbClr val="f6f6a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id they get peoples attention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bb3e8"/>
                  </a:gs>
                  <a:gs pos="100000">
                    <a:srgbClr val="f6f6a8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63356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ount of people that voted yes was  9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ll this the aboriginals finally had a political voi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the answer is it wa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640" y="189000"/>
            <a:ext cx="748836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 it successful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19640" y="39337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4360" y="39337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zoom dir="in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09:40Z</dcterms:created>
  <dc:creator>Reservoir District Secondary College</dc:creator>
  <dc:description/>
  <dc:language>en-US</dc:language>
  <cp:lastModifiedBy>Reservoir District Secondary College</cp:lastModifiedBy>
  <dcterms:modified xsi:type="dcterms:W3CDTF">2008-06-05T03:15:51Z</dcterms:modified>
  <cp:revision>36</cp:revision>
  <dc:subject/>
  <dc:title>Slide 1</dc:title>
</cp:coreProperties>
</file>